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42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52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 type="sldImg"/>
          </p:nvPr>
        </p:nvSpPr>
        <p:spPr>
          <a:xfrm>
            <a:off x="1371600" y="1142640"/>
            <a:ext cx="4114800" cy="3086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move the slide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FE048-E2AF-400F-9677-4A09535F3B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54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Slide Number Placeholder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12A50-28A8-4055-9A84-DEF6429E0C70}" type="slidenum">
              <a:rPr b="0" lang="en-US" sz="1200" spc="-1" strike="noStrike">
                <a:solidFill>
                  <a:srgbClr val="000000"/>
                </a:solidFill>
                <a:latin typeface="Gill San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ubTitle"/>
          </p:nvPr>
        </p:nvSpPr>
        <p:spPr>
          <a:xfrm>
            <a:off x="1269720" y="253800"/>
            <a:ext cx="10464840" cy="1130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1269720" y="5753520"/>
            <a:ext cx="1046484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6631920" y="276840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12697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/>
          </p:nvPr>
        </p:nvSpPr>
        <p:spPr>
          <a:xfrm>
            <a:off x="6631920" y="5753520"/>
            <a:ext cx="5106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80816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8346600" y="276840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126972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6"/>
          <p:cNvSpPr>
            <a:spLocks noGrp="1"/>
          </p:cNvSpPr>
          <p:nvPr>
            <p:ph/>
          </p:nvPr>
        </p:nvSpPr>
        <p:spPr>
          <a:xfrm>
            <a:off x="480816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7"/>
          <p:cNvSpPr>
            <a:spLocks noGrp="1"/>
          </p:cNvSpPr>
          <p:nvPr>
            <p:ph/>
          </p:nvPr>
        </p:nvSpPr>
        <p:spPr>
          <a:xfrm>
            <a:off x="8346600" y="5753520"/>
            <a:ext cx="3369600" cy="2725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 type="subTitle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266760" indent="0" algn="ctr">
              <a:spcBef>
                <a:spcPts val="24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24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780e31"/>
                </a:solidFill>
                <a:latin typeface="Arial"/>
              </a:rPr>
              <a:t>Click to edit the title text format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9000"/>
          </a:bodyPr>
          <a:p>
            <a:pPr marL="745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1" marL="114156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2" marL="153720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3" marL="1932840" indent="-50868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4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5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lvl="6" marL="2328120" indent="-508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1046484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8000"/>
          </a:bodyPr>
          <a:p>
            <a:pPr marL="6688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06020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451520" indent="-43452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4248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33440" indent="-434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7772040" y="2768760"/>
            <a:ext cx="4800600" cy="6858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8000"/>
          </a:bodyPr>
          <a:p>
            <a:pPr marL="59292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3960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86280" indent="-3852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3296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79640" indent="-38484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 type="body"/>
          </p:nvPr>
        </p:nvSpPr>
        <p:spPr>
          <a:xfrm>
            <a:off x="1269720" y="2768400"/>
            <a:ext cx="504180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77000"/>
          </a:bodyPr>
          <a:p>
            <a:pPr marL="58536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92772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270080" indent="-38016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61208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1954440" indent="-379800">
              <a:spcBef>
                <a:spcPts val="38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body"/>
          </p:nvPr>
        </p:nvSpPr>
        <p:spPr>
          <a:xfrm>
            <a:off x="1269720" y="50292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26000"/>
          </a:bodyPr>
          <a:p>
            <a:pPr marL="88920" indent="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88920" indent="-88920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88920" indent="-88920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88920" indent="-88920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269720" y="2971440"/>
            <a:ext cx="10464840" cy="38098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body"/>
          </p:nvPr>
        </p:nvSpPr>
        <p:spPr>
          <a:xfrm>
            <a:off x="1269720" y="1270080"/>
            <a:ext cx="10464840" cy="72136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87000"/>
          </a:bodyPr>
          <a:p>
            <a:pPr marL="72900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111564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150264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1889280" indent="-49716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275920" indent="-496800">
              <a:spcBef>
                <a:spcPts val="4799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4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69720" y="7365600"/>
            <a:ext cx="10464840" cy="17017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1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2" marL="274320" indent="-274320" algn="ctr">
              <a:buClr>
                <a:srgbClr val="000000"/>
              </a:buClr>
              <a:buFont typeface="Gill San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3" marL="274320" indent="-274320" algn="ctr">
              <a:buClr>
                <a:srgbClr val="000000"/>
              </a:buClr>
              <a:buFont typeface="Gill Sans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4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5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  <a:p>
            <a:pPr lvl="6" marL="274320" indent="-274320" algn="ctr">
              <a:buClr>
                <a:srgbClr val="000000"/>
              </a:buClr>
              <a:buFont typeface="Gill Sans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Gill Sans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Gill Sans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000000"/>
                </a:solidFill>
                <a:latin typeface="Gill Sans"/>
              </a:rPr>
              <a:t>Click to edit the title text format</a:t>
            </a:r>
            <a:endParaRPr b="0" lang="en-US" sz="7000" spc="-1" strike="noStrike">
              <a:solidFill>
                <a:srgbClr val="000000"/>
              </a:solidFill>
              <a:latin typeface="Gill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body"/>
          </p:nvPr>
        </p:nvSpPr>
        <p:spPr>
          <a:xfrm>
            <a:off x="635040" y="478800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 fontScale="80000"/>
          </a:bodyPr>
          <a:p>
            <a:pPr marL="274320"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Click to edit the outline text format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1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con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2" marL="274320" indent="-274320" algn="ctr">
              <a:buClr>
                <a:srgbClr val="000000"/>
              </a:buClr>
              <a:buFont typeface="Akzidenz-Grotesk Pro Regular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3" marL="274320" indent="-274320" algn="ctr">
              <a:buClr>
                <a:srgbClr val="000000"/>
              </a:buClr>
              <a:buFont typeface="Akzidenz-Grotesk Pro Regular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our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4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Fif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5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ix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  <a:p>
            <a:pPr lvl="6" marL="274320" indent="-274320" algn="ctr">
              <a:buClr>
                <a:srgbClr val="000000"/>
              </a:buClr>
              <a:buFont typeface="Akzidenz-Grotesk Pro Regular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kzidenz-Grotesk Pro Regular"/>
              </a:rPr>
              <a:t>Seventh Outline Level</a:t>
            </a:r>
            <a:endParaRPr b="0" lang="en-US" sz="3400" spc="-1" strike="noStrike">
              <a:solidFill>
                <a:srgbClr val="000000"/>
              </a:solidFill>
              <a:latin typeface="Akzidenz-Grotesk Pro Regular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title"/>
          </p:nvPr>
        </p:nvSpPr>
        <p:spPr>
          <a:xfrm>
            <a:off x="635040" y="1409760"/>
            <a:ext cx="586728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70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1269720" y="25380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400" spc="-1" strike="noStrike">
                <a:solidFill>
                  <a:srgbClr val="ffb310"/>
                </a:solidFill>
                <a:latin typeface="Akzidenz-Grotesk Pro Bold"/>
              </a:rPr>
              <a:t>Click to edit the title text format</a:t>
            </a:r>
            <a:endParaRPr b="0" lang="en-US" sz="8400" spc="-1" strike="noStrike">
              <a:solidFill>
                <a:srgbClr val="ffb310"/>
              </a:solidFill>
              <a:latin typeface="Akzidenz-Grotesk Pro Bol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1289160" y="2895480"/>
            <a:ext cx="10794960" cy="14860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600" spc="-1" strike="noStrike">
                <a:solidFill>
                  <a:srgbClr val="8c1d40"/>
                </a:solidFill>
                <a:latin typeface="Arial"/>
                <a:ea typeface="Arial"/>
              </a:rPr>
              <a:t>Engineering Design Process</a:t>
            </a:r>
            <a:endParaRPr b="0" lang="en-US" sz="8600" spc="-1" strike="noStrike">
              <a:solidFill>
                <a:srgbClr val="ffb310"/>
              </a:solidFill>
              <a:latin typeface="Akzidenz-Grotesk Pro Bold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1282320" y="6934320"/>
            <a:ext cx="10464840" cy="73656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Dr. Haolin Zhu</a:t>
            </a: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"/>
          <p:cNvSpPr txBox="1"/>
          <p:nvPr/>
        </p:nvSpPr>
        <p:spPr>
          <a:xfrm>
            <a:off x="650520" y="974520"/>
            <a:ext cx="11812680" cy="74134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“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central</a:t>
            </a:r>
            <a:r>
              <a:rPr b="1" i="1" lang="en-US" sz="6800" spc="-1" strike="noStrike">
                <a:solidFill>
                  <a:srgbClr val="ffc000"/>
                </a:solidFill>
                <a:latin typeface="Akzidenz-Grotesk Pro Regular"/>
              </a:rPr>
              <a:t> 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activity of engineering, as distinguished from science, is the </a:t>
            </a:r>
            <a:r>
              <a:rPr b="1" i="1" lang="en-US" sz="6800" spc="-1" strike="noStrike">
                <a:solidFill>
                  <a:srgbClr val="8c1d40"/>
                </a:solidFill>
                <a:latin typeface="Akzidenz-Grotesk Pro Regular"/>
              </a:rPr>
              <a:t>design</a:t>
            </a:r>
            <a:r>
              <a:rPr b="1" i="1" lang="en-US" sz="6800" spc="-1" strike="noStrike">
                <a:solidFill>
                  <a:srgbClr val="000000"/>
                </a:solidFill>
                <a:latin typeface="Akzidenz-Grotesk Pro Regular"/>
              </a:rPr>
              <a:t> of new devices, processes and systems.”</a:t>
            </a:r>
            <a:endParaRPr b="0" lang="en-US" sz="6800" spc="-1" strike="noStrike">
              <a:solidFill>
                <a:srgbClr val="000000"/>
              </a:solidFill>
              <a:latin typeface="Akzidenz-Grotesk Pro Regular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kzidenz-Grotesk Pro Regular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200" spc="-1" strike="noStrike">
                <a:solidFill>
                  <a:srgbClr val="000000"/>
                </a:solidFill>
                <a:latin typeface="Akzidenz-Grotesk Pro Regular"/>
              </a:rPr>
              <a:t>-</a:t>
            </a: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Myron Tribus, in: Rational Descriptions, Decisions and Designs,</a:t>
            </a:r>
            <a:br>
              <a:rPr sz="2200"/>
            </a:br>
            <a:r>
              <a:rPr b="0" i="1" lang="en-US" sz="2200" spc="-1" strike="noStrike">
                <a:solidFill>
                  <a:srgbClr val="000000"/>
                </a:solidFill>
                <a:latin typeface="Akzidenz-Grotesk Pro Regular"/>
              </a:rPr>
              <a:t> Pergamon Press, 1969.</a:t>
            </a:r>
            <a:endParaRPr b="0" lang="en-US" sz="2200" spc="-1" strike="noStrike">
              <a:solidFill>
                <a:srgbClr val="000000"/>
              </a:solidFill>
              <a:latin typeface="Akzidenz-Grotesk Pro Regular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5" name="Diagram 3" descr=""/>
          <p:cNvPicPr/>
          <p:nvPr/>
        </p:nvPicPr>
        <p:blipFill>
          <a:blip r:embed="rId1"/>
          <a:stretch/>
        </p:blipFill>
        <p:spPr>
          <a:xfrm>
            <a:off x="-712800" y="1170000"/>
            <a:ext cx="14385960" cy="7961400"/>
          </a:xfrm>
          <a:prstGeom prst="rect">
            <a:avLst/>
          </a:prstGeom>
          <a:ln w="0">
            <a:noFill/>
          </a:ln>
        </p:spPr>
      </p:pic>
      <p:pic>
        <p:nvPicPr>
          <p:cNvPr id="536" name="Group 9" descr=""/>
          <p:cNvPicPr/>
          <p:nvPr/>
        </p:nvPicPr>
        <p:blipFill>
          <a:blip r:embed="rId2"/>
          <a:stretch/>
        </p:blipFill>
        <p:spPr>
          <a:xfrm>
            <a:off x="3571920" y="1268280"/>
            <a:ext cx="817560" cy="731880"/>
          </a:xfrm>
          <a:prstGeom prst="rect">
            <a:avLst/>
          </a:prstGeom>
          <a:ln w="0">
            <a:noFill/>
          </a:ln>
        </p:spPr>
      </p:pic>
      <p:pic>
        <p:nvPicPr>
          <p:cNvPr id="537" name="Diagram group" descr=""/>
          <p:cNvPicPr/>
          <p:nvPr/>
        </p:nvPicPr>
        <p:blipFill>
          <a:blip r:embed="rId3"/>
          <a:stretch/>
        </p:blipFill>
        <p:spPr>
          <a:xfrm>
            <a:off x="5321160" y="4243320"/>
            <a:ext cx="2487600" cy="1706760"/>
          </a:xfrm>
          <a:prstGeom prst="rect">
            <a:avLst/>
          </a:prstGeom>
          <a:ln w="0">
            <a:noFill/>
          </a:ln>
        </p:spPr>
      </p:pic>
      <p:pic>
        <p:nvPicPr>
          <p:cNvPr id="538" name="Diagram group" descr=""/>
          <p:cNvPicPr/>
          <p:nvPr/>
        </p:nvPicPr>
        <p:blipFill>
          <a:blip r:embed="rId4"/>
          <a:stretch/>
        </p:blipFill>
        <p:spPr>
          <a:xfrm>
            <a:off x="1017720" y="109440"/>
            <a:ext cx="2487600" cy="1706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1234800" y="1142640"/>
            <a:ext cx="10464840" cy="243828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400" spc="-1" strike="noStrike">
                <a:solidFill>
                  <a:srgbClr val="780e31"/>
                </a:solidFill>
                <a:latin typeface="Arial"/>
                <a:ea typeface="Arial"/>
              </a:rPr>
              <a:t>Engineering Design Process Characteristics</a:t>
            </a:r>
            <a:endParaRPr b="0" lang="en-US" sz="8400" spc="-1" strike="noStrike">
              <a:solidFill>
                <a:srgbClr val="780e31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1235160" y="3580920"/>
            <a:ext cx="9880560" cy="5715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Iterat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Decision making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  <a:p>
            <a:pPr marL="888840" indent="-571320">
              <a:spcBef>
                <a:spcPts val="2401"/>
              </a:spcBef>
              <a:buClr>
                <a:srgbClr val="000000"/>
              </a:buClr>
              <a:buSzPct val="171000"/>
              <a:buFont typeface="Akzidenz-Grotesk Pro Regular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  <a:ea typeface="Arial"/>
              </a:rPr>
              <a:t>Communication intensive proces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1" name="Content Placeholder 3" descr=""/>
          <p:cNvPicPr/>
          <p:nvPr/>
        </p:nvPicPr>
        <p:blipFill>
          <a:blip r:embed="rId1"/>
          <a:stretch/>
        </p:blipFill>
        <p:spPr>
          <a:xfrm>
            <a:off x="328680" y="666900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2" name="Content Placeholder 3" descr=""/>
          <p:cNvPicPr/>
          <p:nvPr/>
        </p:nvPicPr>
        <p:blipFill>
          <a:blip r:embed="rId2"/>
          <a:stretch/>
        </p:blipFill>
        <p:spPr>
          <a:xfrm>
            <a:off x="365040" y="5022720"/>
            <a:ext cx="11887200" cy="3273480"/>
          </a:xfrm>
          <a:prstGeom prst="rect">
            <a:avLst/>
          </a:prstGeom>
          <a:ln w="0">
            <a:noFill/>
          </a:ln>
        </p:spPr>
      </p:pic>
      <p:pic>
        <p:nvPicPr>
          <p:cNvPr id="543" name="Diagram 10" descr=""/>
          <p:cNvPicPr/>
          <p:nvPr/>
        </p:nvPicPr>
        <p:blipFill>
          <a:blip r:embed="rId3"/>
          <a:stretch/>
        </p:blipFill>
        <p:spPr>
          <a:xfrm>
            <a:off x="3224160" y="0"/>
            <a:ext cx="7089840" cy="5016600"/>
          </a:xfrm>
          <a:prstGeom prst="rect">
            <a:avLst/>
          </a:prstGeom>
          <a:ln w="0">
            <a:noFill/>
          </a:ln>
        </p:spPr>
      </p:pic>
      <p:pic>
        <p:nvPicPr>
          <p:cNvPr id="544" name="Content Placeholder 3" descr=""/>
          <p:cNvPicPr/>
          <p:nvPr/>
        </p:nvPicPr>
        <p:blipFill>
          <a:blip r:embed="rId4"/>
          <a:stretch/>
        </p:blipFill>
        <p:spPr>
          <a:xfrm>
            <a:off x="401760" y="3376440"/>
            <a:ext cx="11887200" cy="32734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Haolin Zhu</dc:creator>
  <dc:description/>
  <cp:keywords/>
  <dc:language>en-US</dc:language>
  <cp:lastModifiedBy>Haolin Zhu</cp:lastModifiedBy>
  <dcterms:modified xsi:type="dcterms:W3CDTF">2017-03-02T18:37:47Z</dcterms:modified>
  <cp:revision>42</cp:revision>
  <dc:subject/>
  <dc:title>Title #FFB310 Arial</dc:title>
</cp:coreProperties>
</file>